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024A-D301-4280-9995-E2F3EEC4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F74-8C1A-496B-AA1B-EE7D892E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6F9-606B-440C-A7B9-F76CF332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F52-27AA-40EF-8E79-4379557D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870-61C6-4C2A-B33B-2BD2BAA3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899D-234E-451E-8781-2F8F5E8C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091E-93FA-432C-8918-0234B1EF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1337-A3B2-4A0D-8BE0-8BB205C9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6B9B-D50F-43DB-B6D1-1A71D7E0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1550-484D-4210-BB2A-C39BC4E7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AA88-D602-47D2-9322-B7DDF9E5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8EC1-22DF-4C86-89EE-90F9BC66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956-0C7E-4C6D-9874-E47B9422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849C-E474-4630-98E6-0689CE90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73EC-A10C-4C9E-BE7C-DB22D8D7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B841-9F93-45E8-9B18-B26E5644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6875-C713-4E0D-8405-B22893F9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C5B8-26B9-4020-8700-63F5DD20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1B3-2406-487B-A1B4-F9C0D487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5C7-A1C4-473A-9DBF-1F5EB868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159-7901-4FE4-AC13-17D61CBE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FFF-0E45-4AFC-9AED-B270BFDC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20F-6A26-416C-8A7E-DC515374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D24-5A31-40BE-A662-0D6252C5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670-BD26-43A5-A9E7-03E16A41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81EA-AFA9-4F45-B8C2-72C18F58F7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A5EA-E339-4297-81C9-0B9C6E04E0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everan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 Little Engine That Cou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omplete 2 handout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Tenacious Quotes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My personal patience rat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everanc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orking hard and not giving up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11" descr="j0292020"/>
          <p:cNvPicPr/>
          <p:nvPr/>
        </p:nvPicPr>
        <p:blipFill>
          <a:blip r:embed="rId1"/>
          <a:stretch/>
        </p:blipFill>
        <p:spPr>
          <a:xfrm>
            <a:off x="3770280" y="35812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enacity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lding together and sticking to something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5" descr="j0285410"/>
          <p:cNvPicPr/>
          <p:nvPr/>
        </p:nvPicPr>
        <p:blipFill>
          <a:blip r:embed="rId1"/>
          <a:stretch/>
        </p:blipFill>
        <p:spPr>
          <a:xfrm>
            <a:off x="4343400" y="3276720"/>
            <a:ext cx="28195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he Crow and the Pitch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LEGION</cp:lastModifiedBy>
  <dcterms:modified xsi:type="dcterms:W3CDTF">2015-09-11T10:54:09Z</dcterms:modified>
  <cp:revision>13</cp:revision>
  <dc:subject/>
  <dc:title>Character Education Perseverance</dc:title>
</cp:coreProperties>
</file>